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06C1F-596E-4CBA-AE36-902F0AA35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6E350-3FCD-462C-B171-2795921A6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0CFDA-41A9-4401-B29B-B7BC4FC01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37EF1-B9EE-4F17-B823-9CD483800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760DB-1C82-469B-800F-19A500691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B50E9-1EBC-4F21-92F1-469304AAE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AC2ED-FAE0-423B-A666-B44C0A99A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38F76-E43C-4E35-B2A0-455FF138F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05694-00E1-44D0-BD19-71135D402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5AA9E-774F-4623-8B9C-F87708F4C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5F9C7-7C98-4AC1-8DC1-288DBC00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2F0E6-E90E-4CDA-95D4-2F3294BFC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C0AB2-CBD9-46AD-BE50-4EC962BD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481E5-9012-4EBA-B35C-832DB3D2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73E95-30DA-4688-BA57-BC4F096DF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EA0A2-01FE-4D2A-8B37-A8A46D79F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820AC-1696-4CB0-9A84-905EAE897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70A57-A9BB-4D9C-91D4-F2A1FB527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B2F1-67AF-4A19-A634-787E3279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73AE-6143-46EC-8C42-B4EF494B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FD842-F75B-44CD-9B68-1AB3832C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D57D-963B-4E20-B975-1498AF0A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4BA1-AA2D-4E41-905A-47244FA5A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8D4F-80D0-417B-BA92-4373E0125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B667-EBDA-4CD6-B90D-055950942A2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A09A-E90B-4CE3-A9D5-0CC5202232B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 this unit, students will engage in a variety of activities, including how different organisms change as they grow and mature. Each group will create its own Microsoft Movie Maker slideshow on the life cycle of a plant and present it to the class. They will use their ability to observe, record information, and apply it to the telling time and measurement in mathematics. Students will also be responsible for researching and document their life cycle diary. </a:t>
            </a:r>
            <a:endParaRPr b="0" lang="en-US" sz="24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0" lang="en-US" sz="2800" spc="-1" strike="noStrike">
                <a:solidFill>
                  <a:srgbClr val="eaeaea"/>
                </a:solidFill>
                <a:latin typeface="Verdana"/>
              </a:rPr>
              <a:t>Are all living things related</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0" lang="en-US" sz="2000" spc="-1" strike="noStrike">
                <a:solidFill>
                  <a:srgbClr val="eaeaea"/>
                </a:solidFill>
                <a:latin typeface="Verdana"/>
              </a:rPr>
              <a:t>How do living things grow in different way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can I manipulate technology to document a life cycle?</a:t>
            </a:r>
            <a:endParaRPr b="0" lang="en-US" sz="20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they compare to one another?</a:t>
            </a:r>
            <a:r>
              <a:rPr b="1"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a life cycle of a butter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frog?</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dragon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w do sea turtles grow and change?</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can be used to measure the life cycle?</a:t>
            </a:r>
            <a:endParaRPr b="0" lang="en-US" sz="24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 Kellner</cp:lastModifiedBy>
  <dcterms:modified xsi:type="dcterms:W3CDTF">2010-08-24T18:19:56Z</dcterms:modified>
  <cp:revision>22</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